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whoosh.wav" ContentType="audio/x-wav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F768-BB3F-477A-84D1-C871253A7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8B7C-EE25-4EB2-90F4-A2B30DCA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755E-E8A6-4106-8FEE-013A2AE40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B185-C0D3-4C53-8C26-2920B02BC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AE71-2ADC-4CA3-9C60-FE55F8B62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24F6-0EA9-4C9E-827A-BF178D77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9F51-FB19-4564-A028-F54627FC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F72E-EA55-44C2-A6B9-61E851B6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82C7-66DF-4BBE-B57D-42184FAC4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7645-44B4-4CC4-864E-F06246EB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8251-28A5-4496-8A37-706CAC5B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CC5A-7B58-4C5A-9495-FDBBFB4F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BCA5-B5C5-4614-BFBF-55865F2D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4932-F7FA-4630-8059-82352E59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CAD8-998C-4C5D-8522-227A069B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919E-F71B-4D05-B6D3-779402CDA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4B4F-6133-4DD9-8F2B-A32111EB6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9947-3C76-4FB7-BE6B-5175FB4B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092B-7056-4FE1-A36D-D5BBE4AB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31E1-B6FB-4365-9EB0-C62D5B81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E724-0966-4E27-8832-22EEB73A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47F6-8643-41C6-A1DD-4C10CCDE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2957-8BF9-4803-AA84-F7697B97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A6D4-EAD5-4051-B014-E895989E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>
              <a:gd name="textAreaLeft" fmla="*/ 0 w 838080"/>
              <a:gd name="textAreaRight" fmla="*/ 838440 w 8380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5AAB-ED45-451F-904B-9FBB50A2EC8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>
              <a:gd name="textAreaLeft" fmla="*/ 0 w 838080"/>
              <a:gd name="textAreaRight" fmla="*/ 838440 w 8380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>
              <a:gd name="textAreaLeft" fmla="*/ 0 w 1722600"/>
              <a:gd name="textAreaRight" fmla="*/ 1722960 w 17226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A970-A976-4DD2-8D8A-73DFF8AA4F0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d189"/>
                </a:solidFill>
                <a:latin typeface="Comic Sans MS"/>
              </a:rPr>
              <a:t>ELEMENTS </a:t>
            </a:r>
            <a:br>
              <a:rPr sz="6000"/>
            </a:br>
            <a:r>
              <a:rPr b="1" lang="en-US" sz="6000" spc="-1" strike="noStrike">
                <a:solidFill>
                  <a:srgbClr val="ebd189"/>
                </a:solidFill>
                <a:latin typeface="Comic Sans MS"/>
              </a:rPr>
              <a:t>OF DRAMA</a:t>
            </a:r>
            <a:endParaRPr b="0" lang="en-US" sz="6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52388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Comic Sans MS"/>
              </a:rPr>
              <a:t>Romeo and Julie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By William Shakespea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whoosh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O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The emotions the reader feels when reading/watching a piece of work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Excited, scared, regretful, etc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47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48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49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50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IMIL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Comparing two things using </a:t>
            </a:r>
            <a:r>
              <a:rPr b="0" i="1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like</a:t>
            </a:r>
            <a:r>
              <a:rPr b="0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 or </a:t>
            </a:r>
            <a:r>
              <a:rPr b="0" i="1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as</a:t>
            </a:r>
            <a:r>
              <a:rPr b="0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.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53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54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55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56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ERSONIFIC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A figure of speech in which an animal, object, force of nature, or idea is given human qualities or characteristic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59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60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61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62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XYMOR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3810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A combination of seemingly contradictory word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x: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“O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loving hate! . . .O heavy lightness! Feather of lead, bright smoke, cold fire, sick health!</a:t>
            </a:r>
            <a:br>
              <a:rPr sz="2000"/>
            </a:b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Still-waking sleep…This love feel I, that feel no love in this.” </a:t>
            </a:r>
            <a:r>
              <a:rPr b="1" i="1" lang="en-US" sz="2000" spc="-1" strike="noStrike">
                <a:solidFill>
                  <a:srgbClr val="eaeaea"/>
                </a:solidFill>
                <a:latin typeface="Arial"/>
              </a:rPr>
              <a:t>R &amp; J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65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66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67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68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LANK VER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erse written in unrhymed lines of iambic pentameter, a rhythm pattern with 5 units, or feet, each of which has an unstressed syllable followed by a stressed syllabl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1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796000" y="1819440"/>
            <a:ext cx="3043080" cy="30574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MIC RELIEF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3886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A short, funny episode that interrupts a serious or tragic, dramatic even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Breaks the tension after an intense scene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75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76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77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AR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type of comedy that provokes laughter by placing characters in ridiculous situations to quickly resolve a conflict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80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81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82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83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1904760"/>
            <a:ext cx="1600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d189"/>
                </a:solidFill>
                <a:latin typeface="Arial"/>
              </a:rPr>
              <a:t>FOIL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90360" y="480024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 character who provides a strong contrast to another character.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 foil may emphasize another character’s distinctive traits or make a character look better by comparison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6" name="Picture 7" descr="http://www.mckellen.com/images/1490.jpg"/>
          <p:cNvPicPr/>
          <p:nvPr/>
        </p:nvPicPr>
        <p:blipFill>
          <a:blip r:embed="rId1"/>
          <a:stretch/>
        </p:blipFill>
        <p:spPr>
          <a:xfrm>
            <a:off x="3276720" y="609480"/>
            <a:ext cx="5333760" cy="3657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VER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versal of the usual word order in a prose sentence or line of poetry, for emphasis or variety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89" name="Group 12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90" name="Rectangle 9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91" name="Rectangle 10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92" name="Picture 13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ITUATIONAL IRON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Exists when the actual outcome of a situation is the opposite of what is expected.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95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96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97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98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RAM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A story written to be performed by actors in front of an audience.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05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06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07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08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RAMATIC IRON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Exists when the reader knows something that a character does not know.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01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202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03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204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LA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story that is told through the use of dialogue.             (a conversation between characters in a literary work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7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unction of Dialogu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logue brings characters to life by revealing their personalities and by showing what they are thinking and feeling as they react to other character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0" name="Picture 7" descr="http://iml.umkc.edu/theatre/sound/shakes/9copy.jpg"/>
          <p:cNvPicPr/>
          <p:nvPr/>
        </p:nvPicPr>
        <p:blipFill>
          <a:blip r:embed="rId1"/>
          <a:stretch/>
        </p:blipFill>
        <p:spPr>
          <a:xfrm>
            <a:off x="5562720" y="1676520"/>
            <a:ext cx="274140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LOGU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introduction of an act. The chorus tells what is going to happen in the play.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214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15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216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P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Theater slang for articles or objects used in a play or movie. (</a:t>
            </a:r>
            <a:r>
              <a:rPr b="0" i="1" lang="en-US" sz="3600" spc="-1" strike="noStrike">
                <a:solidFill>
                  <a:srgbClr val="eaeaea"/>
                </a:solidFill>
                <a:latin typeface="Arial"/>
              </a:rPr>
              <a:t>prop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erties)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19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220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21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222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U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humorous play on two or more meanings of the same word or on two different words with the same sound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25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226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27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228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CEN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353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 subdivision of an act in a play.  Each scene usually takes place in a specific setting and time.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1" name="Picture 7" descr="http://www.rfdesigns.org/graphics/comedy.jpg"/>
          <p:cNvPicPr/>
          <p:nvPr/>
        </p:nvPicPr>
        <p:blipFill>
          <a:blip r:embed="rId1"/>
          <a:stretch/>
        </p:blipFill>
        <p:spPr>
          <a:xfrm>
            <a:off x="4495680" y="1905120"/>
            <a:ext cx="4648320" cy="34858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unction of the Scene 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680" y="5028840"/>
            <a:ext cx="73915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scene allows the author of the play to create a sense of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Setting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time and place)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4" name="Picture 7" descr="http://www.amherst.edu/library/archives/exhibitions/play/images/sha-jc-set.jpg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36403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OLILOQU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81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long speech delivered by a character who is alone onstage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soliloquy typically reveals the private thoughts and emotions of the charac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7" name="Picture 7" descr="http://www.tes.co.uk/upload/2128585/scotshappiness.jpg"/>
          <p:cNvPicPr/>
          <p:nvPr/>
        </p:nvPicPr>
        <p:blipFill>
          <a:blip r:embed="rId1"/>
          <a:stretch/>
        </p:blipFill>
        <p:spPr>
          <a:xfrm>
            <a:off x="5437080" y="1676520"/>
            <a:ext cx="299268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TAGE DIRECTION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a play, written instructions that explain how characters should look, speak, move, and behave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40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241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42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243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TERNAL CONFLIC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A character struggles against some outside forc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Character vs. Character, nature, society, or fate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11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12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13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14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M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main idea or message of a literary work.  Theme is not the subject of the work but instead is an insight about life or human nature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46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247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48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249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RAGED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 play in which a main character, called the tragic hero, suffers a downfall.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52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253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255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RAGIC FLA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weakness within the character of a tragic hero that causes the hero to suffer a downfall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58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259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60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261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TERNAL CONFLIC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Exists within the mind of a character who is torn between different courses of action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17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18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19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20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AC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810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A major division of a play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Books have chapt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Plays have A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omeo and Juliet has 5 acts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2514600" y="1828800"/>
            <a:ext cx="4179960" cy="2910960"/>
            <a:chOff x="2514600" y="1828800"/>
            <a:chExt cx="4179960" cy="2910960"/>
          </a:xfrm>
        </p:grpSpPr>
        <p:sp>
          <p:nvSpPr>
            <p:cNvPr id="124" name="Rectangle 5"/>
            <p:cNvSpPr/>
            <p:nvPr/>
          </p:nvSpPr>
          <p:spPr>
            <a:xfrm>
              <a:off x="2514600" y="1828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25" name="Rectangle 6"/>
            <p:cNvSpPr/>
            <p:nvPr/>
          </p:nvSpPr>
          <p:spPr>
            <a:xfrm>
              <a:off x="2514600" y="1874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26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S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A comment made by a character that is heard by the audience only (stage whisper)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9" name="Picture 4" descr="othello_Iago_whisper2"/>
          <p:cNvPicPr/>
          <p:nvPr/>
        </p:nvPicPr>
        <p:blipFill>
          <a:blip r:embed="rId1"/>
          <a:stretch/>
        </p:blipFill>
        <p:spPr>
          <a:xfrm>
            <a:off x="5105520" y="1295280"/>
            <a:ext cx="3504960" cy="52578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Func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of Asid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81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ides are frequently used to: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1)  Provide information to the audience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2) Reveal the private thoughts of characters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2" name="Picture 7" descr="othello_Iago_whisper2"/>
          <p:cNvPicPr/>
          <p:nvPr/>
        </p:nvPicPr>
        <p:blipFill>
          <a:blip r:embed="rId1"/>
          <a:stretch/>
        </p:blipFill>
        <p:spPr>
          <a:xfrm>
            <a:off x="5105520" y="1600200"/>
            <a:ext cx="3276360" cy="49528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ORESHADOW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360" y="1066680"/>
            <a:ext cx="3809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Clues that hint at events that will occur later in the plo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Builds suspen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Prepares readers for what is to come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36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37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38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ETAPHO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360" y="1295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Compares two or more things </a:t>
            </a:r>
            <a:r>
              <a:rPr b="0" i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not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 using </a:t>
            </a:r>
            <a:r>
              <a:rPr b="0" i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like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 or </a:t>
            </a:r>
            <a:r>
              <a:rPr b="0" i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as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42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43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44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06:49:05Z</dcterms:created>
  <dc:creator> scott killen</dc:creator>
  <dc:description/>
  <dc:language>en-US</dc:language>
  <cp:lastModifiedBy>Mcadwell</cp:lastModifiedBy>
  <dcterms:modified xsi:type="dcterms:W3CDTF">2012-02-16T16:25:10Z</dcterms:modified>
  <cp:revision>41</cp:revision>
  <dc:subject/>
  <dc:title>Elements of Dram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Google.Documents.DocumentId">
    <vt:lpwstr>1JDHyRqUoIdWrQzIWrVGsOYgk-0DI3MTFvjWLAtnHef4</vt:lpwstr>
  </property>
  <property fmtid="{D5CDD505-2E9C-101B-9397-08002B2CF9AE}" pid="3" name="Google.Documents.MergeIncapabilityFlags">
    <vt:r8>0</vt:r8>
  </property>
  <property fmtid="{D5CDD505-2E9C-101B-9397-08002B2CF9AE}" pid="4" name="Google.Documents.PluginVersion">
    <vt:lpwstr>2.0.2424.7283</vt:lpwstr>
  </property>
  <property fmtid="{D5CDD505-2E9C-101B-9397-08002B2CF9AE}" pid="5" name="Google.Documents.RevisionId">
    <vt:lpwstr>04066345615424093422</vt:lpwstr>
  </property>
  <property fmtid="{D5CDD505-2E9C-101B-9397-08002B2CF9AE}" pid="6" name="Google.Documents.Tracking">
    <vt:lpwstr>true</vt:lpwstr>
  </property>
</Properties>
</file>